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BD02-DFB5-45D8-8D48-BD08DA15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1C4A-25F0-4DED-8FBB-E320A0C6F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4E47-9678-48E0-BE2B-542A87EB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9F12-3E6B-40CB-BED2-EE65A9ED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86FB-35C6-44B5-95CA-A1856EA1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949-8823-4D84-99D3-00010655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0AF5-D479-44F3-9757-19736966A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1CB-B3FA-4D8C-B9A9-3A271404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4FD-022C-4B9E-B9BD-33873C0C5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A8D-B47C-4F42-BEC2-C75055DC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6FF-59EC-490E-BB36-0BAD6874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F02-9294-4FB0-8F12-10845454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AEA4-4524-44D4-8C1E-7D14F970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C96F-6F24-44FA-8544-41244B149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61D6-F360-4919-AA5D-384E6C50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1566-793A-4769-A340-4C7036C2F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530-BF99-4D91-8B48-C2DDA005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050-5258-446C-B61E-AE56474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837-DC91-4D2D-A6F9-4C7FCB34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09F-BD78-4E76-AAC7-4C3D6A5A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770-CEF5-427C-A85B-B841131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77B-ACC2-46BE-8658-6E28CD2E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8BE-8321-4CBD-A0A1-2CBE97D7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C2E-2B2D-4129-A3C8-8D2BAF7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01D-5A7D-4F7D-B429-0301AB5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E80-5B01-4B27-862D-374082F3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127-AD9E-421B-B413-95100DE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409-8836-4403-A18D-2B3197B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0480-FA22-4240-A6D0-95066901F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CATHEDR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Of Medieval Europ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And bey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im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ms - Basilique Saint-Rémi by Jean Lemoine."/>
          <p:cNvPicPr/>
          <p:nvPr/>
        </p:nvPicPr>
        <p:blipFill>
          <a:blip r:embed="rId1"/>
          <a:stretch/>
        </p:blipFill>
        <p:spPr>
          <a:xfrm>
            <a:off x="838080" y="1752480"/>
            <a:ext cx="7162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Beauvai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eauvais"/>
          <p:cNvPicPr/>
          <p:nvPr/>
        </p:nvPicPr>
        <p:blipFill>
          <a:blip r:embed="rId1"/>
          <a:stretch/>
        </p:blipFill>
        <p:spPr>
          <a:xfrm>
            <a:off x="1143000" y="2133720"/>
            <a:ext cx="7010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St. Patrick’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Y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St. Patricks Cathedral  by Jonas Bengtsson.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St. Patrick’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Y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t. Patrick's Cathedral, New York by Nick Lansley."/>
          <p:cNvPicPr/>
          <p:nvPr/>
        </p:nvPicPr>
        <p:blipFill>
          <a:blip r:embed="rId1"/>
          <a:stretch/>
        </p:blipFill>
        <p:spPr>
          <a:xfrm>
            <a:off x="1828800" y="1600200"/>
            <a:ext cx="480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ational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ashington, D.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Washington National Cathedral by since1968."/>
          <p:cNvPicPr/>
          <p:nvPr/>
        </p:nvPicPr>
        <p:blipFill>
          <a:blip r:embed="rId1"/>
          <a:stretch/>
        </p:blipFill>
        <p:spPr>
          <a:xfrm>
            <a:off x="609480" y="1828800"/>
            <a:ext cx="784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ationaL Cathedr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Washington, D.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Washington DC Cathedral Interior by buttersg88."/>
          <p:cNvPicPr/>
          <p:nvPr/>
        </p:nvPicPr>
        <p:blipFill>
          <a:blip r:embed="rId1"/>
          <a:stretch/>
        </p:blipFill>
        <p:spPr>
          <a:xfrm>
            <a:off x="838080" y="16765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athedral Of 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-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Notre Dame by dai oni."/>
          <p:cNvPicPr/>
          <p:nvPr/>
        </p:nvPicPr>
        <p:blipFill>
          <a:blip r:embed="rId1"/>
          <a:stretch/>
        </p:blipFill>
        <p:spPr>
          <a:xfrm>
            <a:off x="685800" y="1614600"/>
            <a:ext cx="78487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aris_Notre_Dame_nave_central by VRfoto.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Notre Dam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Par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Notre Dame.- by ancama_99(toni).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Notre D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Stained G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Notre Dame of Paris - the North rose window by jmvnoos in Paris."/>
          <p:cNvPicPr/>
          <p:nvPr/>
        </p:nvPicPr>
        <p:blipFill>
          <a:blip r:embed="rId1"/>
          <a:stretch/>
        </p:blipFill>
        <p:spPr>
          <a:xfrm>
            <a:off x="2895480" y="1676520"/>
            <a:ext cx="3733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artres Cathedral in Chartres, France (Northern facade) by Merowig.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hartres Cathedral by Hugo Palma.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Chartre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window-SRose-c-paradox"/>
          <p:cNvPicPr/>
          <p:nvPr/>
        </p:nvPicPr>
        <p:blipFill>
          <a:blip r:embed="rId1"/>
          <a:stretch/>
        </p:blipFill>
        <p:spPr>
          <a:xfrm>
            <a:off x="2133720" y="1676520"/>
            <a:ext cx="426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Reims Cathedr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ere is the REIMS cathedral"/>
          <p:cNvPicPr/>
          <p:nvPr/>
        </p:nvPicPr>
        <p:blipFill>
          <a:blip r:embed="rId1"/>
          <a:stretch/>
        </p:blipFill>
        <p:spPr>
          <a:xfrm>
            <a:off x="1676520" y="2133720"/>
            <a:ext cx="5105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2:43:45Z</dcterms:created>
  <dc:creator>McCasland</dc:creator>
  <dc:description/>
  <dc:language>en-US</dc:language>
  <cp:lastModifiedBy>cpagliaro</cp:lastModifiedBy>
  <dcterms:modified xsi:type="dcterms:W3CDTF">2010-12-10T15:29:22Z</dcterms:modified>
  <cp:revision>4</cp:revision>
  <dc:subject/>
  <dc:title>CATHEDRALS</dc:title>
</cp:coreProperties>
</file>